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7D8-AE08-41ED-BB51-CB4B3043C2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646-12C7-4BDB-BEAC-8B5FCB536F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5C1-C104-4E73-9883-C5CDFA7727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64F-6074-47D7-BB72-CB5A6D0157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A075-9395-45DC-8339-2962D3B53E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B29-53F8-4E2B-A031-E6780EECA9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3B1-E71E-4B47-A4BC-7B92CDEEC0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B743-8B58-4306-A62D-7854CA86B1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3299-4E56-45F6-B8B0-F8D54AB063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6737-691D-46C4-BC7D-58ADC9DCCA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9DE-9EDB-4844-B684-A05326588C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D88-6B93-43ED-8B2C-606B8FD49E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CC5-88D4-46EF-B935-B7254381DA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E48-4FFB-4106-AAD3-48B2F4D8E4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4B4-3340-4F4C-A61B-C82A638077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2EAC-4E4D-406C-97A7-FF727EC65B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DEF-F672-4A1A-8BA5-4D44A67B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B9B-8DBE-4632-A9C7-D6220D1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2A3-3F30-49E2-9756-BFA8EB58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D7F-85B2-40E3-AC12-AFC97ACF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A18-B31A-4AFC-9B23-72A60A76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6FB-8B95-44A6-A143-9543DDE6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C4EC-180E-481B-AC10-168B52B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95FB-4956-474B-AF5C-5ABD767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E6B-AB35-4204-86B4-10CD100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266D-241E-41F9-9796-C920BFE6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256-CC1E-409D-A5F9-9F8C4CE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0B80-55AF-46D6-A75D-73898FCE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ABC5-4F4A-4FB6-AA7D-7A4D2B24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A2AA-26EC-4A5E-8B33-C80C329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504A-A633-4476-BB74-AC65483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A12-FE8E-47A3-81A1-61050DC0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8689-A9C0-4B5E-9C65-1C82F940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99C0-14BF-40D1-9D9A-E6AAAD78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2DD-1C8E-4744-B33C-4C80FB1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A121-8432-4D8D-874F-BCC01CCA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63B-DA23-45BD-A1DA-68CAA6D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9093-279E-4B0D-B7D2-87FB015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D346-DBE8-4849-BB7F-D4E7377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DDDF-3206-4B9C-89D9-125025E9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F43B-9E05-43CD-A903-A242DDB3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0D77-0C36-47C7-A676-FDD00205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82B6-54B5-47CA-9381-D1658B6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105B-6250-4072-B372-B182BE6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9F7F-E5D4-4F0E-8680-5C206DA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F320-0504-4EA9-AA9C-ECC32DF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4436-6E56-448B-8822-DD633593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671-0599-4657-A471-86CFC7FF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769C-5E5C-4B57-BAFF-07BEC3FA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07A7-B5F5-4679-A6F4-B1CB5D7B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5AAB-367B-4014-BF79-D8B688B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E2DE-DEEA-41BB-906E-81BDC976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AC32-46FF-4125-916A-162FACB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EC4C-5B71-4844-A6C8-8B2766A5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4949-A69E-4755-8B41-B10D74E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F3E7-862A-4815-913F-02FB2CD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C5D7-371E-4DB7-A9BB-0BDB5B7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EC52-6CB0-4BFB-86B3-0C7EAE9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78B-D0B3-45A1-A912-912B79E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D118-1559-456A-BC45-055C07E4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09AC-0AFF-48E4-B089-75534383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6844-038D-487E-B3F5-ACA5B593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C74-BE09-4B7B-982B-0B2EF26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923-B79A-43D1-8853-1DFE36F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grpSp>
          <p:nvGrpSpPr>
            <p:cNvPr id="1" name="Group 10"/>
            <p:cNvGrpSpPr/>
            <p:nvPr/>
          </p:nvGrpSpPr>
          <p:grpSpPr>
            <a:xfrm>
              <a:off x="0" y="0"/>
              <a:ext cx="9138240" cy="6849360"/>
              <a:chOff x="0" y="0"/>
              <a:chExt cx="9138240" cy="6849360"/>
            </a:xfrm>
          </p:grpSpPr>
          <p:pic>
            <p:nvPicPr>
              <p:cNvPr id="2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"/>
                <a:ext cx="8134560" cy="684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8200" y="0"/>
                <a:ext cx="5990040" cy="52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2680" y="1040760"/>
                <a:ext cx="8845560" cy="580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" name="Rectangle 11"/>
            <p:cNvGrpSpPr/>
            <p:nvPr/>
          </p:nvGrpSpPr>
          <p:grpSpPr>
            <a:xfrm>
              <a:off x="682200" y="1144440"/>
              <a:ext cx="8461800" cy="5722920"/>
              <a:chOff x="682200" y="1144440"/>
              <a:chExt cx="8461800" cy="5722920"/>
            </a:xfrm>
          </p:grpSpPr>
          <p:pic>
            <p:nvPicPr>
              <p:cNvPr id="6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200" y="1144440"/>
                <a:ext cx="846180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 rot="10800000">
                <a:off x="685080" y="1149840"/>
                <a:ext cx="8452800" cy="57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Straight Connector 12"/>
            <p:cNvSpPr/>
            <p:nvPr/>
          </p:nvSpPr>
          <p:spPr>
            <a:xfrm>
              <a:off x="685080" y="1150920"/>
              <a:ext cx="8452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EF2F-C0A8-4055-A898-D5458A37ECE9}" type="slidenum"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" name="Group 10"/>
            <p:cNvGrpSpPr/>
            <p:nvPr/>
          </p:nvGrpSpPr>
          <p:grpSpPr>
            <a:xfrm>
              <a:off x="0" y="5760"/>
              <a:ext cx="9138240" cy="6852240"/>
              <a:chOff x="0" y="5760"/>
              <a:chExt cx="9138240" cy="6852240"/>
            </a:xfrm>
          </p:grpSpPr>
          <p:pic>
            <p:nvPicPr>
              <p:cNvPr id="52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6480"/>
                <a:ext cx="8134560" cy="685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8200" y="5760"/>
                <a:ext cx="5990040" cy="524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92680" y="1046880"/>
                <a:ext cx="8845560" cy="5811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Rectangle 7"/>
            <p:cNvGrpSpPr/>
            <p:nvPr/>
          </p:nvGrpSpPr>
          <p:grpSpPr>
            <a:xfrm>
              <a:off x="682200" y="0"/>
              <a:ext cx="8461800" cy="5725440"/>
              <a:chOff x="682200" y="0"/>
              <a:chExt cx="8461800" cy="5725440"/>
            </a:xfrm>
          </p:grpSpPr>
          <p:pic>
            <p:nvPicPr>
              <p:cNvPr id="56" name="Rectangl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200" y="0"/>
                <a:ext cx="8461800" cy="57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85080" y="5760"/>
                <a:ext cx="8452800" cy="57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" name="Rectangle 9" descr=""/>
            <p:cNvPicPr/>
            <p:nvPr/>
          </p:nvPicPr>
          <p:blipFill>
            <a:blip r:embed="rId6"/>
            <a:stretch/>
          </p:blipFill>
          <p:spPr>
            <a:xfrm>
              <a:off x="0" y="6840"/>
              <a:ext cx="8134560" cy="68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Straight Connector 16"/>
            <p:cNvSpPr/>
            <p:nvPr/>
          </p:nvSpPr>
          <p:spPr>
            <a:xfrm>
              <a:off x="685080" y="5714640"/>
              <a:ext cx="8452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720"/>
              <a:ext cx="813996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Rectangle 8" descr=""/>
            <p:cNvPicPr/>
            <p:nvPr/>
          </p:nvPicPr>
          <p:blipFill>
            <a:blip r:embed="rId3"/>
            <a:stretch/>
          </p:blipFill>
          <p:spPr>
            <a:xfrm>
              <a:off x="3150360" y="0"/>
              <a:ext cx="5993640" cy="52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Rectangle 9" descr=""/>
            <p:cNvPicPr/>
            <p:nvPr/>
          </p:nvPicPr>
          <p:blipFill>
            <a:blip r:embed="rId4"/>
            <a:stretch/>
          </p:blipFill>
          <p:spPr>
            <a:xfrm>
              <a:off x="293040" y="1041840"/>
              <a:ext cx="8850960" cy="581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1C5-91F8-4186-BAE8-BE0E37A0D8DC}" type="slidenum"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grpSp>
          <p:nvGrpSpPr>
            <p:cNvPr id="144" name="Group 10"/>
            <p:cNvGrpSpPr/>
            <p:nvPr/>
          </p:nvGrpSpPr>
          <p:grpSpPr>
            <a:xfrm>
              <a:off x="0" y="0"/>
              <a:ext cx="9138240" cy="6849360"/>
              <a:chOff x="0" y="0"/>
              <a:chExt cx="9138240" cy="6849360"/>
            </a:xfrm>
          </p:grpSpPr>
          <p:pic>
            <p:nvPicPr>
              <p:cNvPr id="145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"/>
                <a:ext cx="8134560" cy="684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8200" y="0"/>
                <a:ext cx="5990040" cy="523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2680" y="1040760"/>
                <a:ext cx="8845560" cy="580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Rectangle 11"/>
            <p:cNvGrpSpPr/>
            <p:nvPr/>
          </p:nvGrpSpPr>
          <p:grpSpPr>
            <a:xfrm>
              <a:off x="682200" y="1144440"/>
              <a:ext cx="8461800" cy="5722920"/>
              <a:chOff x="682200" y="1144440"/>
              <a:chExt cx="8461800" cy="5722920"/>
            </a:xfrm>
          </p:grpSpPr>
          <p:pic>
            <p:nvPicPr>
              <p:cNvPr id="149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200" y="1144440"/>
                <a:ext cx="846180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10800000">
                <a:off x="685080" y="1149840"/>
                <a:ext cx="8452800" cy="57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Straight Connector 12"/>
            <p:cNvSpPr/>
            <p:nvPr/>
          </p:nvSpPr>
          <p:spPr>
            <a:xfrm>
              <a:off x="685080" y="1150920"/>
              <a:ext cx="8452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720"/>
              <a:ext cx="813996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Rectangle 9" descr=""/>
            <p:cNvPicPr/>
            <p:nvPr/>
          </p:nvPicPr>
          <p:blipFill>
            <a:blip r:embed="rId3"/>
            <a:stretch/>
          </p:blipFill>
          <p:spPr>
            <a:xfrm>
              <a:off x="3150360" y="0"/>
              <a:ext cx="5993640" cy="52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Rectangle 10" descr=""/>
            <p:cNvPicPr/>
            <p:nvPr/>
          </p:nvPicPr>
          <p:blipFill>
            <a:blip r:embed="rId4"/>
            <a:stretch/>
          </p:blipFill>
          <p:spPr>
            <a:xfrm>
              <a:off x="293040" y="1041840"/>
              <a:ext cx="8850960" cy="581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D04-496A-4ED8-9946-37C166B3ABB0}" type="slidenum"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6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720"/>
              <a:ext cx="813996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Rectangle 9" descr=""/>
            <p:cNvPicPr/>
            <p:nvPr/>
          </p:nvPicPr>
          <p:blipFill>
            <a:blip r:embed="rId3"/>
            <a:stretch/>
          </p:blipFill>
          <p:spPr>
            <a:xfrm>
              <a:off x="3150360" y="0"/>
              <a:ext cx="5993640" cy="52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Rectangle 10" descr=""/>
            <p:cNvPicPr/>
            <p:nvPr/>
          </p:nvPicPr>
          <p:blipFill>
            <a:blip r:embed="rId4"/>
            <a:stretch/>
          </p:blipFill>
          <p:spPr>
            <a:xfrm>
              <a:off x="293040" y="1041840"/>
              <a:ext cx="8850960" cy="581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948-FE03-4F7B-B90A-115A9F079CDE}" type="slidenum">
              <a:rPr b="0" lang="en-US" sz="1200" spc="-1" strike="noStrike">
                <a:solidFill>
                  <a:srgbClr val="000000"/>
                </a:solidFill>
                <a:latin typeface="Tw Cen MT Condense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13420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L FONDO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TTURA E STRATEGI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NDIRIZZI: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                        </a:t>
            </a: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PARTI SOCIALI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</a:t>
            </a: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13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89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sp>
        <p:nvSpPr>
          <p:cNvPr id="290" name="CasellaDiTesto 2"/>
          <p:cNvSpPr/>
          <p:nvPr/>
        </p:nvSpPr>
        <p:spPr>
          <a:xfrm>
            <a:off x="2089080" y="795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asellaDiTesto 3"/>
          <p:cNvSpPr/>
          <p:nvPr/>
        </p:nvSpPr>
        <p:spPr>
          <a:xfrm>
            <a:off x="-676440" y="83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34200" cy="44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PROGETTI FINANZIATI/CARATTERISTICHE</a:t>
            </a:r>
            <a:br>
              <a:rPr sz="1600"/>
            </a:b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(2005 -  MARZO 201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23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533520" y="4038480"/>
          <a:ext cx="7924680" cy="741600"/>
        </p:xfrm>
        <a:graphic>
          <a:graphicData uri="http://schemas.openxmlformats.org/drawingml/2006/table">
            <a:tbl>
              <a:tblPr/>
              <a:tblGrid>
                <a:gridCol w="1331640"/>
                <a:gridCol w="1427400"/>
                <a:gridCol w="2570040"/>
                <a:gridCol w="25956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DO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UOM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T. INDETERMIN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T. DETERMIN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37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62,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96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3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1342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PROGETTI FINANZIATI/CARATTERISTICHE</a:t>
            </a:r>
            <a:br>
              <a:rPr sz="1600"/>
            </a:b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(2005 – MARZO 201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27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533520" y="4038480"/>
          <a:ext cx="7924680" cy="74160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2057400"/>
                <a:gridCol w="2057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OPER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MPIEG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QUAD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DIRIG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8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6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3,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0,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1342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PROGETTI FINANZIATI/CARATTERISTICHE</a:t>
            </a:r>
            <a:br>
              <a:rPr sz="1600"/>
            </a:b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(2005 – MARZO 2013 </a:t>
            </a:r>
            <a:r>
              <a:rPr b="0" lang="it-IT" sz="1200" spc="-1" strike="noStrike">
                <a:solidFill>
                  <a:srgbClr val="ff0000"/>
                </a:solidFill>
                <a:latin typeface="Comic Sans MS"/>
              </a:rPr>
              <a:t>VOUCHER ESCLUSI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31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304920" y="4038480"/>
          <a:ext cx="8610480" cy="741600"/>
        </p:xfrm>
        <a:graphic>
          <a:graphicData uri="http://schemas.openxmlformats.org/drawingml/2006/table">
            <a:tbl>
              <a:tblPr/>
              <a:tblGrid>
                <a:gridCol w="2666880"/>
                <a:gridCol w="2563920"/>
                <a:gridCol w="2252520"/>
                <a:gridCol w="1127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COFINANZI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% SU CONTRIB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ORE FORM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3.960.172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26,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7.066.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3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134200" cy="41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AZIONE DI ACCOMPAGNAMENTO PIANI FORMATIV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8000"/>
                </a:solidFill>
                <a:latin typeface="Comic Sans MS"/>
              </a:rPr>
              <a:t>* </a:t>
            </a:r>
            <a:r>
              <a:rPr b="1" lang="it-IT" sz="1000" spc="-1" strike="noStrike">
                <a:solidFill>
                  <a:srgbClr val="008000"/>
                </a:solidFill>
                <a:latin typeface="Comic Sans MS"/>
              </a:rPr>
              <a:t>LE CATEGORIE NAZIONALI STANNO CONCLUDENDO IL LAVORO DI MODIFICA/IMPLEMENTAZIONE DEI PIANI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35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"/>
          <p:cNvGraphicFramePr/>
          <p:nvPr/>
        </p:nvGraphicFramePr>
        <p:xfrm>
          <a:off x="380880" y="3200400"/>
          <a:ext cx="8382240" cy="741240"/>
        </p:xfrm>
        <a:graphic>
          <a:graphicData uri="http://schemas.openxmlformats.org/drawingml/2006/table">
            <a:tbl>
              <a:tblPr/>
              <a:tblGrid>
                <a:gridCol w="2514600"/>
                <a:gridCol w="2743200"/>
                <a:gridCol w="31244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2006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REGIO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NAZIONALI DI 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*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134200" cy="41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NVITI 2012 PUBBLICAT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39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380880" y="3200400"/>
          <a:ext cx="8382240" cy="1590840"/>
        </p:xfrm>
        <a:graphic>
          <a:graphicData uri="http://schemas.openxmlformats.org/drawingml/2006/table">
            <a:tbl>
              <a:tblPr/>
              <a:tblGrid>
                <a:gridCol w="6195960"/>
                <a:gridCol w="2186280"/>
              </a:tblGrid>
              <a:tr h="362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NV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OSTEGNO ALLO SVILUPPO E ALLA OCCUPAZIONE </a:t>
                      </a:r>
                      <a:r>
                        <a:rPr b="1" lang="it-IT" sz="10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1-20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5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INTEGRAZIONE POLITICHE FONDO – REGIONE LOMB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IS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.7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13420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NVITI 2012 PUBBLICAT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43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152280" y="2057400"/>
          <a:ext cx="8839440" cy="3114720"/>
        </p:xfrm>
        <a:graphic>
          <a:graphicData uri="http://schemas.openxmlformats.org/drawingml/2006/table">
            <a:tbl>
              <a:tblPr/>
              <a:tblGrid>
                <a:gridCol w="7312320"/>
                <a:gridCol w="1527120"/>
              </a:tblGrid>
              <a:tr h="37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INVITO 2 -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LINEE DI FINANZIAMEN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SVILUPPO TERRITO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9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PROMOZIONE DI POLITICHE DI SETTORE </a:t>
                      </a:r>
                      <a:r>
                        <a:rPr b="0" lang="it-IT" sz="10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(SPORTELLO INVESTIMENTI TECNOLOGIC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7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SVILUPPO LOCALE DEI TERRITORI DEL MEZZOGIO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MICRO IMPRESE </a:t>
                      </a:r>
                      <a:r>
                        <a:rPr b="1" lang="it-IT" sz="10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(SPORTEL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2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MULTIREG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2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VOU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8000"/>
                          </a:solidFill>
                          <a:latin typeface="Comic Sans MS"/>
                          <a:ea typeface="Comic Sans MS"/>
                        </a:rPr>
                        <a:t>22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ddcfc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13420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L FONDO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TTURA E STRATEGI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MENTI: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                        </a:t>
            </a: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INVITO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PIANO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    PROGETTO</a:t>
            </a: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13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94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813456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L FONDO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TTURA E STRATEGI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MENTI: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                       </a:t>
            </a: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INVITO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0000ff"/>
                </a:solidFill>
                <a:latin typeface="Comic Sans MS"/>
              </a:rPr>
              <a:t>DISPOSITIVO PER LA CANDITATURA DEI PROGETTI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</a:t>
            </a: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13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97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813456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L FONDO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TTURA E STRATEGI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MENTI: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                       </a:t>
            </a: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PIANO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0000ff"/>
                </a:solidFill>
                <a:latin typeface="Comic Sans MS"/>
              </a:rPr>
              <a:t>DOCUMENTO DI PROGRAMMAZIONE DELLE POLITICHE FORMATIV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</a:t>
            </a: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13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1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00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813456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IL FONDO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TTURA E STRATEGI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STRUMENTI: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                       </a:t>
            </a:r>
            <a:br>
              <a:rPr sz="1400"/>
            </a:br>
            <a:r>
              <a:rPr b="1" lang="it-IT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PROGETTO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0000ff"/>
                </a:solidFill>
                <a:latin typeface="Comic Sans MS"/>
              </a:rPr>
              <a:t>STRUMENTO PER LA REALIZZAZIONE DELLE POLITICHE FORMATIVE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0000ff"/>
                </a:solidFill>
                <a:latin typeface="Comic Sans MS"/>
              </a:rPr>
              <a:t>                        </a:t>
            </a:r>
            <a:br>
              <a:rPr sz="1400"/>
            </a:br>
            <a:br>
              <a:rPr sz="1400"/>
            </a:br>
            <a:r>
              <a:rPr b="1" lang="it-IT" sz="13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13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1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03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34200" cy="44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ADESIONI GENNAIO 2013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1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06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2438280" y="3276720"/>
          <a:ext cx="4191120" cy="741240"/>
        </p:xfrm>
        <a:graphic>
          <a:graphicData uri="http://schemas.openxmlformats.org/drawingml/2006/table">
            <a:tbl>
              <a:tblPr/>
              <a:tblGrid>
                <a:gridCol w="2210040"/>
                <a:gridCol w="198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MP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LAV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76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633.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3420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ADESIONI GENNAIO 2013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ff6600"/>
                </a:solidFill>
                <a:latin typeface="Comic Sans MS"/>
              </a:rPr>
              <a:t> MARCH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10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2590920" y="2057400"/>
          <a:ext cx="4190760" cy="1538280"/>
        </p:xfrm>
        <a:graphic>
          <a:graphicData uri="http://schemas.openxmlformats.org/drawingml/2006/table">
            <a:tbl>
              <a:tblPr/>
              <a:tblGrid>
                <a:gridCol w="2209680"/>
                <a:gridCol w="198108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MP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LAV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7.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28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71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,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4,4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39,13 % </a:t>
                      </a:r>
                      <a:r>
                        <a:rPr b="1" lang="it-IT" sz="8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SU TOT. DIP REG. = 71.7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666880" y="4267080"/>
          <a:ext cx="4191120" cy="1113120"/>
        </p:xfrm>
        <a:graphic>
          <a:graphicData uri="http://schemas.openxmlformats.org/drawingml/2006/table">
            <a:tbl>
              <a:tblPr/>
              <a:tblGrid>
                <a:gridCol w="2210040"/>
                <a:gridCol w="198108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CRESCITA 2011 -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MP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LAV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7,6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6,5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34200" cy="44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RISORSE STANZIATE E INVITI PUBBLICATI 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15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2438280" y="3276720"/>
          <a:ext cx="4191120" cy="741240"/>
        </p:xfrm>
        <a:graphic>
          <a:graphicData uri="http://schemas.openxmlformats.org/drawingml/2006/table">
            <a:tbl>
              <a:tblPr/>
              <a:tblGrid>
                <a:gridCol w="2210040"/>
                <a:gridCol w="198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NVITI 2004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RIS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216.90176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34200" cy="44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IL FONDO IN NUMERI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ff"/>
                </a:solidFill>
                <a:latin typeface="Comic Sans MS"/>
              </a:rPr>
              <a:t>PROGETTI FINANZIATI/CARATTERISTICHE</a:t>
            </a:r>
            <a:br>
              <a:rPr sz="1600"/>
            </a:b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(2005 - MARZO 201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62120" y="5821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PIANO NAZIONALE PROPEDEUTICHE: PROGETTO  PROGETTO  CGIL Bi.C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</a:t>
            </a: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ff"/>
                </a:solidFill>
                <a:latin typeface="Comic Sans MS"/>
              </a:rPr>
              <a:t>MARZO 2013</a:t>
            </a:r>
            <a:endParaRPr b="0" lang="en-US" sz="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19" name="Immagin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019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533520" y="4038480"/>
          <a:ext cx="8076960" cy="741600"/>
        </p:xfrm>
        <a:graphic>
          <a:graphicData uri="http://schemas.openxmlformats.org/drawingml/2006/table">
            <a:tbl>
              <a:tblPr/>
              <a:tblGrid>
                <a:gridCol w="1442880"/>
                <a:gridCol w="1441440"/>
                <a:gridCol w="1730520"/>
                <a:gridCol w="1731960"/>
                <a:gridCol w="17301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PROGE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PIA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RIS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IMPR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LAV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7.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.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83.765996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22.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6600"/>
                          </a:solidFill>
                          <a:latin typeface="Comic Sans MS"/>
                          <a:ea typeface="Comic Sans MS"/>
                        </a:rPr>
                        <a:t>172.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3-10T13:42:46Z</dcterms:modified>
  <cp:revision>1</cp:revision>
  <dc:subject/>
  <dc:title>Presentation for science fair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9990</vt:lpwstr>
  </property>
</Properties>
</file>